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028AB-212B-4E4E-AA85-3EE660BA8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A6C62-256E-4BD0-A619-D80D0DE3D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27B39-06E5-4080-928E-9F918BFB2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A7954-46C1-4A84-99A9-B959D29FC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9DB88-61FF-4822-BEA4-A3FA23ABC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9D7CE-FD09-4D93-8EF5-53F8CF309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323EF-D51B-4475-9D16-A3891EE7E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C6F54-3405-47A0-A2E8-5373177AC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BE1C6-992D-430C-84D4-0D7A23A8C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8AA18-BBC9-436B-A97D-0F3AD8DB2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34D9B-705D-4584-9096-1637DDB38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F5094-25BB-4382-BF5F-F1A518298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055AF-2329-4BAA-AAFC-E7DFE7D1A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3F27C-EA67-45D6-B65F-19BF7EADF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6052E-7CEE-44DF-81EB-245DEAA12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812A05-1D6F-4D3A-BBC5-64C1F524E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F85B3-FD95-4EA5-9371-227B14329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4815E3D-910F-424A-B500-E477E3BEDD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B21AAB4-24DF-48B8-8D8C-FA39A76089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58242D7-D50D-446B-8F4E-C48D6341A2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3C9A281-9210-40E6-95AA-E90D29C6B0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5DC628E-7C52-4F90-A480-CC2D8F97E3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A53B1-D049-4D09-A9B1-BCA4AFD3C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EC3A176-217E-46C5-B9FB-E185D5096A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9D973F3-4D68-4035-9C9C-216343E7E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464DD2-3C11-4C85-9BA7-9EA6CBCC8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74ED42-F6CB-41D2-A528-450867A22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C07DA3A-5633-4EB0-9811-7DB1A8608C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B402AA2-5172-40AA-BD16-131630F8CD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477DB1E-96D0-4356-8A17-619CE54D94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ECD097-E0CD-4BD1-9FD6-97E43812B3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B0E882-BC0F-4EC7-B276-C233B76FA1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A1BDE5-0558-4BEB-A919-C33867DA31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E3C8E-7BDA-4058-996E-38D36EDFB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1451C1-9778-4371-B47B-0FB7B3F916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44C51E-3F61-4B1A-8E3D-1F9340EC3B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2C9F07-BE3D-4EE7-AD95-42CA7C4B80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D988E6-CE20-4243-A60F-F2B373E86B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746365-4DAE-46B7-B27C-2B93F9613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597B3B-C7C8-4BE4-A683-434DD11A2A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E3DEE4-3737-4D52-B5E9-486A9A1CFF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70BB76-8F17-41D5-8A24-7F202BA77E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829606-B407-42AF-B4FF-5786B38E7F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43E9439-2D0E-4D9C-BF83-226F198054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B47E2-2096-452B-B8B2-AE12946BF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5CEFBA-8F6D-4451-A2F2-9C722CB237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59C2F4C-0805-40B5-AE47-16D85D7297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326BC84-949F-4EA4-85F2-A5B211259F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3BAE346-C7D2-4036-97E8-7B19ADA7B8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89EE77A-BD7F-4FD7-A197-6A09716AC4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D4715F-8E96-4517-B2D3-4BB453494E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EB6600-2560-4DED-A74E-DE8EA024E2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9C4112E-4A07-4711-8896-AA78AB8BD9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FBE1387-9763-4711-8F61-D0BBDBF4F9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556E076-7A78-41D1-BEC7-639C85AD75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C607C-A0B6-4117-ABEF-C7BFCAAF5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1692621-4EB5-41C0-B653-B57FFFF956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EFA582C-E340-45D9-8F57-62BE1FB2D8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CFD530D-AFB1-402C-8B30-59F2385568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B5A72A4-BBD7-460B-AA47-268ED1EE0B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568593C-6742-41EF-8345-19D9023B2C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26D4DDA-4714-41B3-96BA-9712DD4164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046A0EA-EC62-41C8-B7C6-7C0ECEF8E4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6086B87-8A66-4CEE-939A-911C0D2224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2B6634A-BC57-4C10-8905-38BD1D62D7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28102F5-B77F-4A5D-A0FC-61947089DC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2041A-5571-46FB-AB2C-3FF7BEDA5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DB53BEC-4B71-4661-B10B-1C15C52B6F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A284888-611D-4710-A0EB-EAEC57F6F0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CDE0B25-2A61-4DDF-A9BB-98AA8F211D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5F22F06-759C-456E-A42F-586E0C4298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531A3E2-86C7-47A7-9578-1B5A190C9A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1C8276E-D56A-4337-932A-F662F400A9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525E638-3AA3-4F08-9238-B81051958F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A7D493D-ECDD-4C5D-85AA-6B730E47F5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D06D8B1-10DC-4FA7-BD48-9CEE97031F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13C4FDD-8B17-4313-9D89-64BC50F8DE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A19D6-DC88-4DE3-9C62-33479E82C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E23A7F2-9613-43D2-B850-93D436021A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BC2090C-44FE-434C-B241-363E53EA76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D2C91CE-607F-4672-851F-490DD42457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467DA34-81A7-410F-9AB5-62795A2A2A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FBC78D6-42EA-42F7-8C70-615C85A43F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0D29F-EF07-45B2-B465-53CD17884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364B-410C-4A90-AD08-A4EE6B2C10C0}"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057E5-812D-42AF-9854-25E6E20D1EB4}"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F7F1-899C-4116-BA5C-2FBA9AF169D8}"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F212-AAD8-458F-96C3-5273295A1D3C}"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9E10-B2A6-4E65-AD87-E8A86C223289}"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F85F-2E4F-43A6-A642-C5AB38FAA908}"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E54D-15C6-4EE7-AE19-80CC94EBC7C2}"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EL PLAN EDUCATIVO INSTITUCIONAL DE LAS S.A.D.</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Dirección de Gestión de Asuntos Docente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Área de Capacitación. Módulo 6 D.G.A.D. </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José María Bugarini. SAD General Lavalle.</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Ciclo Lectivo 2013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DESDE DÓNDE SE INICIA EL PROCESO DE CONSTRUCCIÓN DEL PI?(15)</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e inicia por el interés e iniciativa de determinados actores internos o externos a la Institución que demandan a la Institución a realizar cambi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 importante tener en cuenta a todos los actores: los que tienen una actitud positiva y negativa….los que están a favor y en contra del proces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 cual hace necesario consensuar algunos criterios que permitan iniciar o “arrancar” el proceso de construcción del P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A CONVOCATORIA.(16)</a:t>
            </a:r>
            <a:endParaRPr b="0" lang="en-US" sz="3000" spc="-1" strike="noStrike">
              <a:solidFill>
                <a:srgbClr val="575f6d"/>
              </a:solidFill>
              <a:latin typeface="Century Schoolbook"/>
            </a:endParaRPr>
          </a:p>
        </p:txBody>
      </p:sp>
      <p:sp>
        <p:nvSpPr>
          <p:cNvPr id="372" name=""/>
          <p:cNvSpPr txBox="1"/>
          <p:nvPr/>
        </p:nvSpPr>
        <p:spPr>
          <a:xfrm>
            <a:off x="456840" y="981000"/>
            <a:ext cx="7467480" cy="54928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Quién toma la INICIATIVA?</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una primer instancia la iniciativa puede ser tomada por cualquier persona interna o externa a la SAD:</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el S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Otros actores de la S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otros actores territorial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iniciativa del Estad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un Programa Territorial que así  lo requiera.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CRITERIOS PARA LA CONVOCATORIA( 16)</a:t>
            </a:r>
            <a:endParaRPr b="0" lang="en-US" sz="3000" spc="-1" strike="noStrike">
              <a:solidFill>
                <a:srgbClr val="575f6d"/>
              </a:solidFill>
              <a:latin typeface="Century Schoolbook"/>
            </a:endParaRPr>
          </a:p>
        </p:txBody>
      </p:sp>
      <p:sp>
        <p:nvSpPr>
          <p:cNvPr id="374" name=""/>
          <p:cNvSpPr txBox="1"/>
          <p:nvPr/>
        </p:nvSpPr>
        <p:spPr>
          <a:xfrm>
            <a:off x="456840" y="1197000"/>
            <a:ext cx="7467480" cy="52768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convocatoria a construir un PI de la SAD depende del grado de compromiso institucional. Sin embargo podemos señalar algunos criterios:</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oda forma compulsiva juega en contra de la viabilidad del mismo.</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convocatoria necesita un “contrato inicial” discutido y consensuado por todos los actores institucionales.</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carácter interno o externo de la iniciativa incide directamente en la convocatoria y en el contrato inicial….</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hacer posible una buena y efectiva convocatoria tiene que haber convencimiento e identificación con el  contrato inicial.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777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LA SITUACIÓN DE PARTIDA DE LAS DIFERENTES SAD…..CUESTIONES…(17)</a:t>
            </a:r>
            <a:endParaRPr b="0" lang="en-US" sz="2700" spc="-1" strike="noStrike">
              <a:solidFill>
                <a:srgbClr val="575f6d"/>
              </a:solidFill>
              <a:latin typeface="Century Schoolbook"/>
            </a:endParaRPr>
          </a:p>
        </p:txBody>
      </p:sp>
      <p:sp>
        <p:nvSpPr>
          <p:cNvPr id="376" name=""/>
          <p:cNvSpPr txBox="1"/>
          <p:nvPr/>
        </p:nvSpPr>
        <p:spPr>
          <a:xfrm>
            <a:off x="456840" y="1268280"/>
            <a:ext cx="7467480" cy="520560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s diferentes situaciones institucionales de cada SAD son indicadores esenciales para determinar las diferentes maneras de inicio del proceso de construcción del Plan Institucional. Por ello proponemos las siguientes cuestiones como disparadores del mismo: </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s actividades que se realizan en la SAD,¿ son coordinadas por alguien?</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Esas actividades , ¿ responden algún criterio en su organización y convocatoria?</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s actividades que se realizan, ¿responden a iniciativas individuales o colectivas?</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Se siente y se percibe el liderazgo del S.A.D.?</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 comunidad distrital es considerada y participa en las actividades de la SAD de algún modo?</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Quién toma las decisiones relevantes de la SAD?</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Cómo se toman las decisiones?</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Qué tipo de comunicación se establece en las relaciones entre los actores de la SAD? ¿Horizontales y participativas? O ¿Verticales y autoritarias?</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075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a:t>
            </a:r>
            <a:r>
              <a:rPr b="0" lang="es-ES" sz="3000" spc="-1" strike="noStrike">
                <a:solidFill>
                  <a:srgbClr val="575f6d"/>
                </a:solidFill>
                <a:latin typeface="Arial"/>
                <a:ea typeface="Arial"/>
              </a:rPr>
              <a:t>A PRESENCIA: CONSTITUCIÓN DEL EQUIPO DE TRABAJO PARA LA CONSTRUCCIÓN DEL PI.(18)</a:t>
            </a:r>
            <a:endParaRPr b="0" lang="en-US" sz="3000" spc="-1" strike="noStrike">
              <a:solidFill>
                <a:srgbClr val="575f6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cebimos la construcción del PI como un esfuerzo colectivo, por ello la necesidad de constituir un EQUIPO DE TRABAJO.</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equipo de trabajo es un grupo constituido por personas que expresan a los distintos actores de la comunidad educativa y que con sus diferentes posicionamientos contribuyen a la construcción de una gestión institucional democrática.</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ALGUNOS CRITERIOS PARA CONSTITUIR EL EQUIPO DE TRABAJO.(18)</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La participación de los individuos y actores en el proceso de construcción nunca debe ser obligatoria. Se motivará a todos  para que cada uno genere el nivel de compromiso de que es capaz</a:t>
            </a:r>
            <a:r>
              <a:rPr b="0" i="1" lang="es-ES" sz="2400" spc="-1" strike="noStrike">
                <a:solidFill>
                  <a:srgbClr val="000000"/>
                </a:solidFill>
                <a:latin typeface="Arial"/>
                <a:ea typeface="Arial"/>
              </a:rPr>
              <a:t>.</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No se trata de que el equipo de trabajo sea una “muestra representativa” de la SAD, incluso no hace falta que en su paso inicial se hallen todos los actores institucionales presentes. </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Lo importante que cada uno de los individuos y actores presentes expresen su posicionamiento, su deseo y su compromiso para la construcción: y a medida que avanza el proceso se convierta en la expresión de los individuos con quienes interactúan directamente en otros espacios institucionales. </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OS CÓDIGOS COMUNES INICIALES.(18)</a:t>
            </a:r>
            <a:endParaRPr b="0" lang="en-US" sz="3000" spc="-1" strike="noStrike">
              <a:solidFill>
                <a:srgbClr val="575f6d"/>
              </a:solidFill>
              <a:latin typeface="Century Schoolbook"/>
            </a:endParaRPr>
          </a:p>
        </p:txBody>
      </p:sp>
      <p:sp>
        <p:nvSpPr>
          <p:cNvPr id="382" name=""/>
          <p:cNvSpPr txBox="1"/>
          <p:nvPr/>
        </p:nvSpPr>
        <p:spPr>
          <a:xfrm>
            <a:off x="456840" y="1268280"/>
            <a:ext cx="7467480" cy="52056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l inicio del proceso los actores que acuden a la convocatoria pueden tener falsas expectativas y diferentes formas de percibir y entender lo que el Proyecto Técnico Administrativo y Educativo Institucional de la SAD constituye para sí misma. Por eso:</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Es necesario un reflexión introductoria sobre los significados del PEI.</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La reflexión podría desarrollarse a partir de una lectura grupal  y sobre lo que significa el PI para cada uno de los actores presentes. </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Es importante en este paso llegar a ACUERDOS MINIMOS que expresen un COMUN ENTENDIMIENTO de qué es lo que se va a iniciar.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8147160" cy="633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575f6d"/>
                </a:solidFill>
                <a:latin typeface="Arial"/>
                <a:ea typeface="Arial"/>
              </a:rPr>
              <a:t>LAS REGLAS DE CONSTRUCCIÓN INTERSUBJETIVAS.(19)</a:t>
            </a:r>
            <a:endParaRPr b="0" lang="en-US" sz="2400" spc="-1" strike="noStrike">
              <a:solidFill>
                <a:srgbClr val="575f6d"/>
              </a:solidFill>
              <a:latin typeface="Century Schoolbook"/>
            </a:endParaRPr>
          </a:p>
        </p:txBody>
      </p:sp>
      <p:sp>
        <p:nvSpPr>
          <p:cNvPr id="384" name=""/>
          <p:cNvSpPr txBox="1"/>
          <p:nvPr/>
        </p:nvSpPr>
        <p:spPr>
          <a:xfrm>
            <a:off x="456840" y="1125000"/>
            <a:ext cx="7467480" cy="534852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Todo proceso de construcción está basado en unas reglas mínimas que permiten asegurar las condiciones que hagan posible la construcción. Esto pasa por acordar qué vamos a entender por </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Compromiso.</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Participación y por</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Trabajo en Equipo </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476280"/>
            <a:ext cx="8075520" cy="59976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Obviamente, los códigos comunes que se plantearán en un inicio serán </a:t>
            </a:r>
            <a:r>
              <a:rPr b="1" i="1" lang="es-ES" sz="2400" spc="-1" strike="noStrike">
                <a:solidFill>
                  <a:srgbClr val="000000"/>
                </a:solidFill>
                <a:latin typeface="Arial"/>
                <a:ea typeface="Arial"/>
              </a:rPr>
              <a:t>PROVISORIOS </a:t>
            </a:r>
            <a:r>
              <a:rPr b="0" lang="es-ES" sz="2400" spc="-1" strike="noStrike">
                <a:solidFill>
                  <a:srgbClr val="000000"/>
                </a:solidFill>
                <a:latin typeface="Arial"/>
                <a:ea typeface="Arial"/>
              </a:rPr>
              <a:t>y se alimentarán continuamente con la marcha del proceso.</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En lo formal: es importante que este paso lleve al equipo a:</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Que se designen responsables de la coordinación y de las memorias de las reuniones….</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Que se definan responsabilidades iniciales para cada participante.</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Identificar con claridad cuál es la razón para la conformación del equipo de trabajo. </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Fijar cronogramas y modalidades de trabajo viables. </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75f6d"/>
                </a:solidFill>
                <a:latin typeface="Century Schoolbook"/>
              </a:rPr>
              <a:t>EL PLAN EDUCATIVO INSTITUCIONAL DE LAS SECRETARIAS DE ASUNTOS DOCENTES.(8-10)</a:t>
            </a:r>
            <a:endParaRPr b="0" lang="en-US" sz="32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No se trata de la formulación de un documento, sino de una práctica y un proceso, un significado que siempre se está construyendo colectivamente.</a:t>
            </a:r>
            <a:endParaRPr b="0" lang="en-US" sz="2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Constituye:</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un proceso continuo, flexible y participativo,</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Que respeta los tiempos requeridos por cada SAD.</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a concreción de un significado común.</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n proceso participativo.</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n proceso de articulación y coordinación de objetivos estratégico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n proceso para la creación y recreación de la cultura institucional. </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AS IDEAS FUNDAMENTALES DEL PLAN INSTITUCIONAL DE UNA SAD(11)</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Gestionar una institución y construir un Plan Educativos Institucional para nuestras Secretarías implica la consideración de estas cuatro ideas fundamentales:</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OTALID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HETEROGENEID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STRUCCIÓN INTERSUBJETIV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TICIPAC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OS MOMENTOS PARA LA CONSTRUCCIÓN  DE LA GESTIÓN INSTITUCIONAL.(12)</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construcción del Proyecto Técnico Administrativo y Educativo Institucional de las S.A.D. se propone un proceso metodológico organizado en seis momentos de reflexión para la ac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dentidad Instituc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Visión Instituc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Análisis Instituc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mpromisos de Ac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Viabilidad del PEI</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valuación Institucion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859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QUÉ VAMOS A ENCONTRAR EN EL MODULO ?(13)</a:t>
            </a:r>
            <a:br>
              <a:rPr sz="2700"/>
            </a:br>
            <a:endParaRPr b="0" lang="en-US" sz="27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ada uno de los momentos de construcción del Plan Institucional propuesto contiene los siguientes elemento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presentación del momento.</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reguntas motivadora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riterios generales y específico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rumentos y técnica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riterios y preguntas para evaluar cada momento.</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91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CUÁL ES EL PROCEDIMIENTO A SEGUIR?(13)</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ada Secretaría , desde su realidad, definen el procedimiento a seguir.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momentos presentados no constituyen una secuencia rígid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orden que se propone en el módulo responde a un enfoque estratégic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920" y="274320"/>
            <a:ext cx="8424720" cy="1282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QUÉ ES LO MÁS IMPORTANTE EN ESTA METODOLOGÍA DE LA CONSTRUCCIÓN DEL PLAN INSTITUCIONAL DE LA SAD?(14)</a:t>
            </a:r>
            <a:endParaRPr b="0" lang="en-US" sz="2700" spc="-1" strike="noStrike">
              <a:solidFill>
                <a:srgbClr val="575f6d"/>
              </a:solidFill>
              <a:latin typeface="Century Schoolbook"/>
            </a:endParaRPr>
          </a:p>
        </p:txBody>
      </p:sp>
      <p:sp>
        <p:nvSpPr>
          <p:cNvPr id="364" name=""/>
          <p:cNvSpPr txBox="1"/>
          <p:nvPr/>
        </p:nvSpPr>
        <p:spPr>
          <a:xfrm>
            <a:off x="457200" y="1844280"/>
            <a:ext cx="8075520" cy="46292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Schoolbook"/>
              </a:rPr>
              <a:t>Lo esencial es trabajar consensuadamente y colectivamente cada uno de los momentos de reflexión institucional y NO llenar formularios o matrices formales ineficaces.</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24000" y="259920"/>
            <a:ext cx="8424720" cy="1081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75f6d"/>
                </a:solidFill>
                <a:latin typeface="Arial"/>
                <a:ea typeface="Arial"/>
              </a:rPr>
              <a:t>¿QUÉ ES  COMÚN PARA TODOS LOS MOMENTOS?(14</a:t>
            </a:r>
            <a:r>
              <a:rPr b="0" lang="es-ES" sz="2800" spc="-1" strike="noStrike">
                <a:solidFill>
                  <a:srgbClr val="575f6d"/>
                </a:solidFill>
                <a:latin typeface="Century Schoolbook"/>
              </a:rPr>
              <a:t>)</a:t>
            </a:r>
            <a:endParaRPr b="0" lang="en-US" sz="2800" spc="-1" strike="noStrike">
              <a:solidFill>
                <a:srgbClr val="575f6d"/>
              </a:solidFill>
              <a:latin typeface="Century Schoolbook"/>
            </a:endParaRPr>
          </a:p>
        </p:txBody>
      </p:sp>
      <p:sp>
        <p:nvSpPr>
          <p:cNvPr id="366" name=""/>
          <p:cNvSpPr txBox="1"/>
          <p:nvPr/>
        </p:nvSpPr>
        <p:spPr>
          <a:xfrm>
            <a:off x="456840" y="1628280"/>
            <a:ext cx="7467480" cy="48452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eje central está en la construcción intersubjetiva de cada uno de los momento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struir códigos comune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xplicar las relaciones predominantes de cada momento.</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struir compromisos de acción.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Retroalimentar la acció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9152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EL MOMENTO DE CONCERTACIÓN.(15)</a:t>
            </a:r>
            <a:endParaRPr b="0" lang="en-US" sz="3000" spc="-1" strike="noStrike">
              <a:solidFill>
                <a:srgbClr val="575f6d"/>
              </a:solidFill>
              <a:latin typeface="Century Schoolbook"/>
            </a:endParaRPr>
          </a:p>
        </p:txBody>
      </p:sp>
      <p:sp>
        <p:nvSpPr>
          <p:cNvPr id="368" name=""/>
          <p:cNvSpPr txBox="1"/>
          <p:nvPr/>
        </p:nvSpPr>
        <p:spPr>
          <a:xfrm>
            <a:off x="456840" y="1125000"/>
            <a:ext cx="8218440" cy="53485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esde su inicio la construcción del PI introduce cambios en las relaciones entre los actores de la gestión institucional pu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e constituye en un espacio de expresión de </a:t>
            </a:r>
            <a:r>
              <a:rPr b="1" i="1" lang="es-ES" sz="2400" spc="-1" strike="noStrike">
                <a:solidFill>
                  <a:srgbClr val="000000"/>
                </a:solidFill>
                <a:latin typeface="Century Schoolbook"/>
              </a:rPr>
              <a:t>“nuevos posicionamientos” </a:t>
            </a:r>
            <a:r>
              <a:rPr b="0" lang="es-ES" sz="2400" spc="-1" strike="noStrike">
                <a:solidFill>
                  <a:srgbClr val="000000"/>
                </a:solidFill>
                <a:latin typeface="Century Schoolbook"/>
              </a:rPr>
              <a:t>por parte de los mism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a:t>
            </a:r>
            <a:r>
              <a:rPr b="1" i="1" lang="es-ES" sz="2400" spc="-1" strike="noStrike">
                <a:solidFill>
                  <a:srgbClr val="000000"/>
                </a:solidFill>
                <a:latin typeface="Century Schoolbook"/>
              </a:rPr>
              <a:t>evidenciación de heterogeneidades y conflictos </a:t>
            </a:r>
            <a:r>
              <a:rPr b="0" lang="es-ES" sz="2400" spc="-1" strike="noStrike">
                <a:solidFill>
                  <a:srgbClr val="000000"/>
                </a:solidFill>
                <a:latin typeface="Century Schoolbook"/>
              </a:rPr>
              <a: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búsqueda de consensos reales que permitan construir la </a:t>
            </a:r>
            <a:r>
              <a:rPr b="1" i="1" lang="es-ES" sz="2400" spc="-1" strike="noStrike">
                <a:solidFill>
                  <a:srgbClr val="000000"/>
                </a:solidFill>
                <a:latin typeface="Century Schoolbook"/>
              </a:rPr>
              <a:t>“institución desead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2:05:16Z</dcterms:created>
  <dc:creator>Jose</dc:creator>
  <dc:description/>
  <dc:language>en-US</dc:language>
  <cp:lastModifiedBy>Jose</cp:lastModifiedBy>
  <dcterms:modified xsi:type="dcterms:W3CDTF">2013-06-18T13:42:32Z</dcterms:modified>
  <cp:revision>17</cp:revision>
  <dc:subject/>
  <dc:title>El Plan Educativo Institucional de las S.A.D.</dc:title>
</cp:coreProperties>
</file>